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BE4-64FF-415E-9D18-7FA617474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1857-E474-4122-A4CE-ACE31D24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42ED-7267-4B0D-9986-B6343434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75A8-E284-4909-839A-C26E9543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2DCC-967D-467F-A92D-D26A6C97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F61D-CAF0-46BC-999F-BAB45402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FCA-F51B-4780-A5DF-B9D8E7C3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8834-CD29-4A4D-970B-2A7D1BC4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7787-25DF-44A9-8600-3A7B5397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3585-5A7B-4B06-A9E6-CD9B43B8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AAD-95B5-4959-982A-1267E14F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66D9-9E47-4C7F-B7E1-04D046E5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1370-4FAD-443A-9585-D92BF8A1C713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1. október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568520" cy="1512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3280" y="5072040"/>
            <a:ext cx="81374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Hazai Tudományos Diákköri műhelyek 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rendezvényeik támogatása” című NTP-HHTDK-20-0044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755640" y="439560"/>
            <a:ext cx="2016000" cy="1089360"/>
          </a:xfrm>
          <a:prstGeom prst="rect">
            <a:avLst/>
          </a:prstGeom>
          <a:ln w="0">
            <a:noFill/>
          </a:ln>
        </p:spPr>
      </p:pic>
      <p:pic>
        <p:nvPicPr>
          <p:cNvPr id="47" name="Kép 9" descr="http://www.emet.gov.hu/_userfiles/hirek/NTP/emmi_logo.png"/>
          <p:cNvPicPr/>
          <p:nvPr/>
        </p:nvPicPr>
        <p:blipFill>
          <a:blip r:embed="rId3"/>
          <a:stretch/>
        </p:blipFill>
        <p:spPr>
          <a:xfrm>
            <a:off x="4140360" y="439560"/>
            <a:ext cx="1439640" cy="1089360"/>
          </a:xfrm>
          <a:prstGeom prst="rect">
            <a:avLst/>
          </a:prstGeom>
          <a:ln w="0">
            <a:noFill/>
          </a:ln>
        </p:spPr>
      </p:pic>
      <p:pic>
        <p:nvPicPr>
          <p:cNvPr id="48" name="Kép 10" descr="http://www.emet.gov.hu/_userfiles/hirek/NTP/ntp_72_rgb.jpg"/>
          <p:cNvPicPr/>
          <p:nvPr/>
        </p:nvPicPr>
        <p:blipFill>
          <a:blip r:embed="rId4"/>
          <a:stretch/>
        </p:blipFill>
        <p:spPr>
          <a:xfrm>
            <a:off x="60336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Kép 11" descr="http://www.emet.gov.hu/_userfiles/hatter_1/emet_logok/%C3%BAj%20logo/emet_logo_szines.jpg"/>
          <p:cNvPicPr/>
          <p:nvPr/>
        </p:nvPicPr>
        <p:blipFill>
          <a:blip r:embed="rId5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1-10-19T12:33:52Z</dcterms:modified>
  <cp:revision>11</cp:revision>
  <dc:subject/>
  <dc:title>DUNÁNTÚLI MANDULAFA</dc:title>
</cp:coreProperties>
</file>