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6C44-C252-453D-A8D0-D1634FCBD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EE96-2F02-4456-AD01-F5F019A77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131-59AA-4164-9E7B-5AEE1343E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8ECF-5AFB-41E4-9707-B44A2F89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3914-372D-4260-9852-8CE18539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812-1126-41E4-BA25-C10D0F09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E08-E49F-45BC-9959-08BDF0BE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C392-35B7-4DD4-8950-0E45015B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14D0-2279-4C89-9FF2-2B2B019A9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D1D9-46AF-4D4A-9C74-F47D61EC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8813-1C5C-4ABF-AB01-7EEA7098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695A-09A8-4C70-B98A-ABD95618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C0E1-F107-4A7A-804A-8C4B002F09E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2. Június 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3898800" y="425520"/>
            <a:ext cx="1344600" cy="1295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1480" y="4761000"/>
            <a:ext cx="8137800" cy="17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Az Országos Tudományos Diákköri Konferencián, valamint tudományos műhelyein való részvétel és a lebonyolítási feladat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ellátása”című NTP-HHTDK-21-0042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1236600" y="439560"/>
            <a:ext cx="1535040" cy="828720"/>
          </a:xfrm>
          <a:prstGeom prst="rect">
            <a:avLst/>
          </a:prstGeom>
          <a:ln w="0">
            <a:noFill/>
          </a:ln>
        </p:spPr>
      </p:pic>
      <p:pic>
        <p:nvPicPr>
          <p:cNvPr id="47" name="Kép 10" descr="http://www.emet.gov.hu/_userfiles/hirek/NTP/ntp_72_rgb.jpg"/>
          <p:cNvPicPr/>
          <p:nvPr/>
        </p:nvPicPr>
        <p:blipFill>
          <a:blip r:embed="rId3"/>
          <a:stretch/>
        </p:blipFill>
        <p:spPr>
          <a:xfrm>
            <a:off x="74772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8" name="Kép 11" descr="http://www.emet.gov.hu/_userfiles/hatter_1/emet_logok/%C3%BAj%20logo/emet_logo_szines.jpg"/>
          <p:cNvPicPr/>
          <p:nvPr/>
        </p:nvPicPr>
        <p:blipFill>
          <a:blip r:embed="rId4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  <p:pic>
        <p:nvPicPr>
          <p:cNvPr id="49" name="Kép 10" descr=""/>
          <p:cNvPicPr/>
          <p:nvPr/>
        </p:nvPicPr>
        <p:blipFill>
          <a:blip r:embed="rId5"/>
          <a:stretch/>
        </p:blipFill>
        <p:spPr>
          <a:xfrm>
            <a:off x="6567480" y="490680"/>
            <a:ext cx="153360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2-05-31T07:35:05Z</dcterms:modified>
  <cp:revision>13</cp:revision>
  <dc:subject/>
  <dc:title>DUNÁNTÚLI MANDULAFA</dc:title>
</cp:coreProperties>
</file>